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BEEF-332B-432B-B103-3F62FF094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AFC-FBC4-456F-B788-7BDD61095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CAD92-262A-489A-A015-B4471CD7D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17CB-E803-4318-ABAF-5C4F4CD4B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A290-0DEF-4A06-ABDF-CE389BDB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6AC0-365A-4B7F-96B0-2C396DCF6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4FC6-B5D6-40B0-AEF1-83C31FD90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7E51-C6A7-492A-A668-6B3A88F5A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0BF-12BC-4CA4-A117-CF51FB16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E8BD-D323-4524-B196-429FC41F5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2AEE-1F08-4787-BC3F-207A5684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9259-562A-42D1-8C05-E01B7F8C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3BDA-6533-4D8F-9A2D-072B97933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590920"/>
            <a:ext cx="40384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wear and bags are two classes of textile artifacts used by prehistoric peoples of the Mid-South for over 8,000 yea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yond their functional aspects, footwear and bags are very personal items that reflect not only individual preferences, but also those that are regionally, culturally and temporall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mens from Museum of Anthropology, University of Missouri, and University Museum, University of Arkan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No 22 1200 dpi"/>
          <p:cNvPicPr/>
          <p:nvPr/>
        </p:nvPicPr>
        <p:blipFill>
          <a:blip r:embed="rId1"/>
          <a:stretch/>
        </p:blipFill>
        <p:spPr>
          <a:xfrm>
            <a:off x="7772400" y="1981080"/>
            <a:ext cx="107316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669960" y="347760"/>
            <a:ext cx="7711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tinuity and Change in Prehistoric  Footwear and Bags in the Mid-Sou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6" descr="No 1 1200 dpi"/>
          <p:cNvPicPr/>
          <p:nvPr/>
        </p:nvPicPr>
        <p:blipFill>
          <a:blip r:embed="rId2"/>
          <a:stretch/>
        </p:blipFill>
        <p:spPr>
          <a:xfrm>
            <a:off x="4572000" y="266688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2bags MO AR sm"/>
          <p:cNvPicPr/>
          <p:nvPr/>
        </p:nvPicPr>
        <p:blipFill>
          <a:blip r:embed="rId3"/>
          <a:stretch/>
        </p:blipFill>
        <p:spPr>
          <a:xfrm>
            <a:off x="6315120" y="4505400"/>
            <a:ext cx="282888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all Research Goal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onological ordering of the specim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ment and interpretation of the artifacts within their cultural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related regional and ecological adap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ation of textile production times and complex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ion of physical characteristics relating to the performance and use of the artifa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ldest Dated Footwear from Misso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No 2 1200 dpi"/>
          <p:cNvPicPr/>
          <p:nvPr/>
        </p:nvPicPr>
        <p:blipFill>
          <a:blip r:embed="rId1"/>
          <a:stretch/>
        </p:blipFill>
        <p:spPr>
          <a:xfrm>
            <a:off x="1447920" y="1523880"/>
            <a:ext cx="6172200" cy="41119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1523880" y="5827680"/>
            <a:ext cx="594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 Archaic Period sandal (ca. 6000 B.C.) made from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ryngium Yuccifoliu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eaves (Museum of Anthropology, University of Missouri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of fibrous foot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No 3 1200 dpi"/>
          <p:cNvPicPr/>
          <p:nvPr/>
        </p:nvPicPr>
        <p:blipFill>
          <a:blip r:embed="rId1"/>
          <a:stretch/>
        </p:blipFill>
        <p:spPr>
          <a:xfrm>
            <a:off x="685800" y="1371600"/>
            <a:ext cx="2336760" cy="35053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MO 3 ftwr reps"/>
          <p:cNvPicPr/>
          <p:nvPr/>
        </p:nvPicPr>
        <p:blipFill>
          <a:blip r:embed="rId2"/>
          <a:stretch/>
        </p:blipFill>
        <p:spPr>
          <a:xfrm>
            <a:off x="3276720" y="1371600"/>
            <a:ext cx="5257800" cy="3538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593640" y="5218200"/>
            <a:ext cx="7940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ree replications of a Woodland Period shoe (left, ca. A.D. 700)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yngium Yuccifolium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ffia, and nylon cord by Gail DeHart, graduate stud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of leather footw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" descr="moc finished side 2"/>
          <p:cNvPicPr/>
          <p:nvPr/>
        </p:nvPicPr>
        <p:blipFill>
          <a:blip r:embed="rId1"/>
          <a:stretch/>
        </p:blipFill>
        <p:spPr>
          <a:xfrm>
            <a:off x="533520" y="4191120"/>
            <a:ext cx="4038480" cy="20476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drawing1"/>
          <p:cNvPicPr/>
          <p:nvPr/>
        </p:nvPicPr>
        <p:blipFill>
          <a:blip r:embed="rId2"/>
          <a:stretch/>
        </p:blipFill>
        <p:spPr>
          <a:xfrm>
            <a:off x="5410080" y="1219320"/>
            <a:ext cx="2921040" cy="4114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No2 Bolin moc"/>
          <p:cNvPicPr/>
          <p:nvPr/>
        </p:nvPicPr>
        <p:blipFill>
          <a:blip r:embed="rId3"/>
          <a:stretch/>
        </p:blipFill>
        <p:spPr>
          <a:xfrm>
            <a:off x="533520" y="1447920"/>
            <a:ext cx="4038480" cy="2508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4952880" y="5562720"/>
            <a:ext cx="419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tern and replication of undated leather moccasin from Arkansas by Dr. Jenna T. Kuttruff (Gene Waters Colle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ication of ba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AR 2 sm bags"/>
          <p:cNvPicPr/>
          <p:nvPr/>
        </p:nvPicPr>
        <p:blipFill>
          <a:blip r:embed="rId1"/>
          <a:stretch/>
        </p:blipFill>
        <p:spPr>
          <a:xfrm>
            <a:off x="5562720" y="3581280"/>
            <a:ext cx="3200400" cy="29941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AR bag2"/>
          <p:cNvPicPr/>
          <p:nvPr/>
        </p:nvPicPr>
        <p:blipFill>
          <a:blip r:embed="rId2"/>
          <a:stretch/>
        </p:blipFill>
        <p:spPr>
          <a:xfrm>
            <a:off x="457200" y="1600200"/>
            <a:ext cx="1100160" cy="21859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AR bag rep proc"/>
          <p:cNvPicPr/>
          <p:nvPr/>
        </p:nvPicPr>
        <p:blipFill>
          <a:blip r:embed="rId3"/>
          <a:stretch/>
        </p:blipFill>
        <p:spPr>
          <a:xfrm>
            <a:off x="1828800" y="1625760"/>
            <a:ext cx="3352680" cy="22240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304920" y="4419720"/>
            <a:ext cx="48765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bags recovered from Arkans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licated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ryngium Yuccifolium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Dr. Jenna T. Kuttruff (University Museum, University of Arkans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3:22:09Z</dcterms:created>
  <dc:creator>jkuttruff</dc:creator>
  <dc:description/>
  <dc:language>en-US</dc:language>
  <cp:lastModifiedBy>Laurel D Romeo</cp:lastModifiedBy>
  <dcterms:modified xsi:type="dcterms:W3CDTF">2014-11-04T13:43:43Z</dcterms:modified>
  <cp:revision>5</cp:revision>
  <dc:subject/>
  <dc:title> </dc:title>
</cp:coreProperties>
</file>