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09B6-66B5-48B4-88CF-77ECEB56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75D0-FE4F-4F3E-8686-52BD5F1B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6866-14D8-4AC0-8D53-9156064B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61FA-4577-44A2-A0E3-4D55F1AD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B9BB-3005-496E-AC14-2D6D302D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41D7-C6C8-4E97-AD23-1B8E0D6B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167F-C608-4FF9-9F52-F38B2D81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AA7F-D51B-4DBE-B012-F2D74AC5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044C-F512-43A1-BDDF-40D93C1E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FCA3-A0EC-4FA3-B901-6338CC28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0500-DD26-47C0-BC49-130BE08B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D919-088A-4BF2-BB01-F1BE3975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DAA5-0BCD-484A-A4CB-6FB2DDE0B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wear and bags are two classes of textile artifacts used by prehistoric peoples of the Mid-South for over 8,00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yond their functional aspects, footwear and bags are very personal items that reflect not only individual preferences, but also those that are regionally, culturally and temporall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mens from Museum of Anthropology, University of Missouri, and University Museum, University of Arkan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No 22 1200 dpi"/>
          <p:cNvPicPr/>
          <p:nvPr/>
        </p:nvPicPr>
        <p:blipFill>
          <a:blip r:embed="rId1"/>
          <a:stretch/>
        </p:blipFill>
        <p:spPr>
          <a:xfrm>
            <a:off x="7772400" y="1981080"/>
            <a:ext cx="1073160" cy="2286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669960" y="347760"/>
            <a:ext cx="7711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inuity and Change in Prehistoric  Footwear and Bags in the Mid-S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No 1 1200 dpi"/>
          <p:cNvPicPr/>
          <p:nvPr/>
        </p:nvPicPr>
        <p:blipFill>
          <a:blip r:embed="rId2"/>
          <a:stretch/>
        </p:blipFill>
        <p:spPr>
          <a:xfrm>
            <a:off x="4572000" y="266688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2bags MO AR sm"/>
          <p:cNvPicPr/>
          <p:nvPr/>
        </p:nvPicPr>
        <p:blipFill>
          <a:blip r:embed="rId3"/>
          <a:stretch/>
        </p:blipFill>
        <p:spPr>
          <a:xfrm>
            <a:off x="6315120" y="4505400"/>
            <a:ext cx="28288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Research 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nological ordering of the specim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ment and interpretation of the artifacts within their cultural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related regional and ecological adap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ation of textile production times and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of physical characteristics relating to the performance and use of the artifa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dest Dated Footwear from Missou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No 2 1200 dpi"/>
          <p:cNvPicPr/>
          <p:nvPr/>
        </p:nvPicPr>
        <p:blipFill>
          <a:blip r:embed="rId1"/>
          <a:stretch/>
        </p:blipFill>
        <p:spPr>
          <a:xfrm>
            <a:off x="1447920" y="1523880"/>
            <a:ext cx="6172200" cy="4111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1523880" y="582768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 Archaic Period sandal (ca. 6000 B.C.) made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ryngium Yuccifol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aves (Museum of Anthropology, University of Missou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of fibrous footw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No 3 1200 dpi"/>
          <p:cNvPicPr/>
          <p:nvPr/>
        </p:nvPicPr>
        <p:blipFill>
          <a:blip r:embed="rId1"/>
          <a:stretch/>
        </p:blipFill>
        <p:spPr>
          <a:xfrm>
            <a:off x="685800" y="1371600"/>
            <a:ext cx="2336760" cy="3505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MO 3 ftwr reps"/>
          <p:cNvPicPr/>
          <p:nvPr/>
        </p:nvPicPr>
        <p:blipFill>
          <a:blip r:embed="rId2"/>
          <a:stretch/>
        </p:blipFill>
        <p:spPr>
          <a:xfrm>
            <a:off x="3276720" y="1371600"/>
            <a:ext cx="5257800" cy="3538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593640" y="5218200"/>
            <a:ext cx="794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replications of a Woodland Period shoe (left, ca. A.D. 700)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ryngium Yuccifolium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ffia, and nylon cord by Gail DeHart, graduate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of leather footw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moc finished side 2"/>
          <p:cNvPicPr/>
          <p:nvPr/>
        </p:nvPicPr>
        <p:blipFill>
          <a:blip r:embed="rId1"/>
          <a:stretch/>
        </p:blipFill>
        <p:spPr>
          <a:xfrm>
            <a:off x="533520" y="4191120"/>
            <a:ext cx="4038480" cy="2047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drawing1"/>
          <p:cNvPicPr/>
          <p:nvPr/>
        </p:nvPicPr>
        <p:blipFill>
          <a:blip r:embed="rId2"/>
          <a:stretch/>
        </p:blipFill>
        <p:spPr>
          <a:xfrm>
            <a:off x="5410080" y="1219320"/>
            <a:ext cx="2921040" cy="411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No2 Bolin moc"/>
          <p:cNvPicPr/>
          <p:nvPr/>
        </p:nvPicPr>
        <p:blipFill>
          <a:blip r:embed="rId3"/>
          <a:stretch/>
        </p:blipFill>
        <p:spPr>
          <a:xfrm>
            <a:off x="533520" y="1447920"/>
            <a:ext cx="4038480" cy="25081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4952880" y="5562720"/>
            <a:ext cx="419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tern and replication of undated leather moccasin from Arkansas by Dr. Jenna T. Kuttruff (Gene Waters Coll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of b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AR 2 sm bags"/>
          <p:cNvPicPr/>
          <p:nvPr/>
        </p:nvPicPr>
        <p:blipFill>
          <a:blip r:embed="rId1"/>
          <a:stretch/>
        </p:blipFill>
        <p:spPr>
          <a:xfrm>
            <a:off x="5562720" y="3581280"/>
            <a:ext cx="3200400" cy="2994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AR bag2"/>
          <p:cNvPicPr/>
          <p:nvPr/>
        </p:nvPicPr>
        <p:blipFill>
          <a:blip r:embed="rId2"/>
          <a:stretch/>
        </p:blipFill>
        <p:spPr>
          <a:xfrm>
            <a:off x="457200" y="1600200"/>
            <a:ext cx="110016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AR bag rep proc"/>
          <p:cNvPicPr/>
          <p:nvPr/>
        </p:nvPicPr>
        <p:blipFill>
          <a:blip r:embed="rId3"/>
          <a:stretch/>
        </p:blipFill>
        <p:spPr>
          <a:xfrm>
            <a:off x="1828800" y="1625760"/>
            <a:ext cx="3352680" cy="2224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304920" y="4419720"/>
            <a:ext cx="4876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bags recovered from Arkans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icated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ryngium Yuccifoli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Dr. Jenna T. Kuttruff (University Museum, University of Arkans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2:09Z</dcterms:created>
  <dc:creator>jkuttruff</dc:creator>
  <dc:description/>
  <dc:language>en-US</dc:language>
  <cp:lastModifiedBy>Laurel D Romeo</cp:lastModifiedBy>
  <dcterms:modified xsi:type="dcterms:W3CDTF">2014-11-04T13:43:43Z</dcterms:modified>
  <cp:revision>5</cp:revision>
  <dc:subject/>
  <dc:title> </dc:title>
</cp:coreProperties>
</file>