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339A-A7C5-48D9-A12B-EE64048AE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07C6-9A36-4247-8C02-8C77F8CE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1F20-ECD7-4FDF-BF85-C6070B5DB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C729A-BD4C-4517-8886-A3E9B4814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575A-9DB0-41E3-93A1-DD81F5B95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34DB-9D51-4862-8C50-302293946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C3DD-69D3-49C9-BEEE-2C0FCED5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BE33-C6A6-4DA6-B79B-52F78089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C9E1-9A39-4962-BAFF-339068AAA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EDA3-F38F-4D86-AEB3-24B6BA95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6127-04EB-41A6-9DFA-EF0BDA32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A4B3B-9EF5-43CE-9393-36D04AC84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18B0C-B0D6-4B6B-948B-41E172961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464832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 of Commodity Bag Fabrics for Family Clothing and Household Textiles in South Louisi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feed sack booklet cover"/>
          <p:cNvPicPr/>
          <p:nvPr/>
        </p:nvPicPr>
        <p:blipFill>
          <a:blip r:embed="rId1"/>
          <a:stretch/>
        </p:blipFill>
        <p:spPr>
          <a:xfrm>
            <a:off x="4876920" y="228600"/>
            <a:ext cx="4184640" cy="64008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4"/>
          <p:cNvSpPr/>
          <p:nvPr/>
        </p:nvSpPr>
        <p:spPr>
          <a:xfrm>
            <a:off x="593640" y="3770280"/>
            <a:ext cx="26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80880" y="388620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 invol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Ph.D. student dissertation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tnering activ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 LSU Textile and Costume Muse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30481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cument characteristics of different types of textile commodity bags and their relationships to consumer end u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commodity bags"/>
          <p:cNvPicPr/>
          <p:nvPr/>
        </p:nvPicPr>
        <p:blipFill>
          <a:blip r:embed="rId1"/>
          <a:stretch/>
        </p:blipFill>
        <p:spPr>
          <a:xfrm>
            <a:off x="3124080" y="1447920"/>
            <a:ext cx="6019920" cy="513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419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4176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ocument ways in which commodity bags were used to make family clothing and textiles in South Louisia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hite front"/>
          <p:cNvPicPr/>
          <p:nvPr/>
        </p:nvPicPr>
        <p:blipFill>
          <a:blip r:embed="rId1"/>
          <a:stretch/>
        </p:blipFill>
        <p:spPr>
          <a:xfrm>
            <a:off x="4952880" y="304920"/>
            <a:ext cx="3170520" cy="6172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5" descr="white pattern"/>
          <p:cNvPicPr/>
          <p:nvPr/>
        </p:nvPicPr>
        <p:blipFill>
          <a:blip r:embed="rId2"/>
          <a:stretch/>
        </p:blipFill>
        <p:spPr>
          <a:xfrm>
            <a:off x="7054920" y="2743200"/>
            <a:ext cx="2089080" cy="2743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Regular and bleached feed sacks"/>
          <p:cNvPicPr/>
          <p:nvPr/>
        </p:nvPicPr>
        <p:blipFill>
          <a:blip r:embed="rId3"/>
          <a:srcRect l="0" t="0" r="1080" b="0"/>
          <a:stretch/>
        </p:blipFill>
        <p:spPr>
          <a:xfrm>
            <a:off x="2514600" y="3886200"/>
            <a:ext cx="2895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4724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earch Goal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pare extant women’s dresses made from commodity bags to fashionable dresses depicted in period journ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1949 Good Housekeeping cover"/>
          <p:cNvPicPr/>
          <p:nvPr/>
        </p:nvPicPr>
        <p:blipFill>
          <a:blip r:embed="rId1"/>
          <a:stretch/>
        </p:blipFill>
        <p:spPr>
          <a:xfrm>
            <a:off x="5008680" y="0"/>
            <a:ext cx="4135320" cy="54864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woman in blue dress GH 1949"/>
          <p:cNvPicPr/>
          <p:nvPr/>
        </p:nvPicPr>
        <p:blipFill>
          <a:blip r:embed="rId2"/>
          <a:stretch/>
        </p:blipFill>
        <p:spPr>
          <a:xfrm>
            <a:off x="7597800" y="4343400"/>
            <a:ext cx="1546200" cy="2514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woman in red dress GH 1949"/>
          <p:cNvPicPr/>
          <p:nvPr/>
        </p:nvPicPr>
        <p:blipFill>
          <a:blip r:embed="rId3"/>
          <a:stretch/>
        </p:blipFill>
        <p:spPr>
          <a:xfrm>
            <a:off x="3886200" y="1066680"/>
            <a:ext cx="1146240" cy="3200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7" descr="woman in orange dress GH 1949"/>
          <p:cNvPicPr/>
          <p:nvPr/>
        </p:nvPicPr>
        <p:blipFill>
          <a:blip r:embed="rId4"/>
          <a:stretch/>
        </p:blipFill>
        <p:spPr>
          <a:xfrm>
            <a:off x="4267080" y="4267080"/>
            <a:ext cx="12765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19:48Z</dcterms:created>
  <dc:creator>jkuttruff</dc:creator>
  <dc:description/>
  <dc:language>en-US</dc:language>
  <cp:lastModifiedBy>Laurel D Romeo</cp:lastModifiedBy>
  <dcterms:modified xsi:type="dcterms:W3CDTF">2014-11-04T13:43:13Z</dcterms:modified>
  <cp:revision>2</cp:revision>
  <dc:subject/>
  <dc:title>Use of Commodity Bag Fabrics for Family Clothing and Household Textiles in South Louisiana</dc:title>
</cp:coreProperties>
</file>