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855-BA8C-47A7-8A2E-6803A6DD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60E5-A969-4148-8AE8-D06EB161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241-F47A-4FD4-ABDA-4E23750D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6648-4CEE-4075-A20D-AF86853D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F29-8C50-4794-96ED-12FACF00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7668-9575-451B-A08A-6CDE6593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AA90-26EA-4B2B-8E03-AB273FB2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9F6-77FD-498A-9920-9755D2E5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4CF7-22BD-4544-B97C-0907F1F2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266-E184-47CC-8E22-5B883E19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C5F-5C20-499B-880C-3EB330B8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4764-2883-47CF-AFE4-FADB69EB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C34A-D252-4A4B-9D7A-3FE20831B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6483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 of Commodity Bag Fabrics for Family Clothing and Household Textiles in South Louis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feed sack booklet cover"/>
          <p:cNvPicPr/>
          <p:nvPr/>
        </p:nvPicPr>
        <p:blipFill>
          <a:blip r:embed="rId1"/>
          <a:stretch/>
        </p:blipFill>
        <p:spPr>
          <a:xfrm>
            <a:off x="4876920" y="228600"/>
            <a:ext cx="4184640" cy="6400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593640" y="3770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80880" y="38862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involv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Ph.D. student dissertati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ing activ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LSU Textile and Costume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Go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3048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cument characteristics of different types of textile commodity bags and their relationships to consumer end 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ommodity bags"/>
          <p:cNvPicPr/>
          <p:nvPr/>
        </p:nvPicPr>
        <p:blipFill>
          <a:blip r:embed="rId1"/>
          <a:stretch/>
        </p:blipFill>
        <p:spPr>
          <a:xfrm>
            <a:off x="3124080" y="1447920"/>
            <a:ext cx="601992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Go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17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cument ways in which commodity bags were used to make family clothing and textiles in South Louisi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hite front"/>
          <p:cNvPicPr/>
          <p:nvPr/>
        </p:nvPicPr>
        <p:blipFill>
          <a:blip r:embed="rId1"/>
          <a:stretch/>
        </p:blipFill>
        <p:spPr>
          <a:xfrm>
            <a:off x="4952880" y="304920"/>
            <a:ext cx="3170520" cy="6172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white pattern"/>
          <p:cNvPicPr/>
          <p:nvPr/>
        </p:nvPicPr>
        <p:blipFill>
          <a:blip r:embed="rId2"/>
          <a:stretch/>
        </p:blipFill>
        <p:spPr>
          <a:xfrm>
            <a:off x="7054920" y="2743200"/>
            <a:ext cx="208908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Regular and bleached feed sacks"/>
          <p:cNvPicPr/>
          <p:nvPr/>
        </p:nvPicPr>
        <p:blipFill>
          <a:blip r:embed="rId3"/>
          <a:srcRect l="0" t="0" r="1080" b="0"/>
          <a:stretch/>
        </p:blipFill>
        <p:spPr>
          <a:xfrm>
            <a:off x="2514600" y="38862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Go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pare extant women’s dresses made from commodity bags to fashionable dresses depicted in period 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949 Good Housekeeping cover"/>
          <p:cNvPicPr/>
          <p:nvPr/>
        </p:nvPicPr>
        <p:blipFill>
          <a:blip r:embed="rId1"/>
          <a:stretch/>
        </p:blipFill>
        <p:spPr>
          <a:xfrm>
            <a:off x="5008680" y="0"/>
            <a:ext cx="4135320" cy="5486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woman in blue dress GH 1949"/>
          <p:cNvPicPr/>
          <p:nvPr/>
        </p:nvPicPr>
        <p:blipFill>
          <a:blip r:embed="rId2"/>
          <a:stretch/>
        </p:blipFill>
        <p:spPr>
          <a:xfrm>
            <a:off x="7597800" y="4343400"/>
            <a:ext cx="154620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woman in red dress GH 1949"/>
          <p:cNvPicPr/>
          <p:nvPr/>
        </p:nvPicPr>
        <p:blipFill>
          <a:blip r:embed="rId3"/>
          <a:stretch/>
        </p:blipFill>
        <p:spPr>
          <a:xfrm>
            <a:off x="3886200" y="1066680"/>
            <a:ext cx="1146240" cy="3200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woman in orange dress GH 1949"/>
          <p:cNvPicPr/>
          <p:nvPr/>
        </p:nvPicPr>
        <p:blipFill>
          <a:blip r:embed="rId4"/>
          <a:stretch/>
        </p:blipFill>
        <p:spPr>
          <a:xfrm>
            <a:off x="4267080" y="4267080"/>
            <a:ext cx="1276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19:48Z</dcterms:created>
  <dc:creator>jkuttruff</dc:creator>
  <dc:description/>
  <dc:language>en-US</dc:language>
  <cp:lastModifiedBy>Laurel D Romeo</cp:lastModifiedBy>
  <dcterms:modified xsi:type="dcterms:W3CDTF">2014-11-04T13:43:13Z</dcterms:modified>
  <cp:revision>2</cp:revision>
  <dc:subject/>
  <dc:title>Use of Commodity Bag Fabrics for Family Clothing and Household Textiles in South Louisiana</dc:title>
</cp:coreProperties>
</file>