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5286-CFB2-4DCA-A5CE-3BDEF3B2F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6029-7A54-4228-BB19-0321902EC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A09-1EAE-4BF3-99C3-D568CB474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A1CD-EAB5-49D5-8D97-A524245C5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666B-0EFD-47AF-B27F-9C3AE0873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928C0-FD6B-4E57-928F-AD0950F7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154C-2D07-413A-A3A5-19C334A7E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E19C-4AEE-4212-993F-0C81708D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0CC9-ED79-42E9-A0E8-51B1FCBF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2305-9F4B-41BA-8F9C-41E10C26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0EC-D58C-4700-979A-B89414A96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0FF4-0AB3-42E8-BCAC-81157AA6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77D2E-D72B-461E-BFF8-FD01E7618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ineteenth Century Burial Dre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ast iron coffins from South Louisiana contain amazingly well preserved garments from 1850s male and female burials and provide an unprecedented research opportun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ile remains from the other burials have been more fragment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d-nineteenth Century Cast Iron Coffin Bur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LL shoe"/>
          <p:cNvPicPr/>
          <p:nvPr/>
        </p:nvPicPr>
        <p:blipFill>
          <a:blip r:embed="rId1"/>
          <a:stretch/>
        </p:blipFill>
        <p:spPr>
          <a:xfrm>
            <a:off x="6324480" y="3886200"/>
            <a:ext cx="2590920" cy="1558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petticoat yoke"/>
          <p:cNvPicPr/>
          <p:nvPr/>
        </p:nvPicPr>
        <p:blipFill>
          <a:blip r:embed="rId2"/>
          <a:stretch/>
        </p:blipFill>
        <p:spPr>
          <a:xfrm>
            <a:off x="6324480" y="1981080"/>
            <a:ext cx="2514600" cy="17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chemisette detail"/>
          <p:cNvPicPr/>
          <p:nvPr/>
        </p:nvPicPr>
        <p:blipFill>
          <a:blip r:embed="rId3"/>
          <a:stretch/>
        </p:blipFill>
        <p:spPr>
          <a:xfrm>
            <a:off x="4648320" y="1600200"/>
            <a:ext cx="1409760" cy="2133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0" descr="undersleeve"/>
          <p:cNvPicPr/>
          <p:nvPr/>
        </p:nvPicPr>
        <p:blipFill>
          <a:blip r:embed="rId4"/>
          <a:stretch/>
        </p:blipFill>
        <p:spPr>
          <a:xfrm>
            <a:off x="4648320" y="3886200"/>
            <a:ext cx="1425600" cy="2438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12"/>
          <p:cNvSpPr/>
          <p:nvPr/>
        </p:nvSpPr>
        <p:spPr>
          <a:xfrm>
            <a:off x="669960" y="1712880"/>
            <a:ext cx="36734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rments from 1850s Louisiana bu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roidered chemiset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broidered undersle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ist band on pettico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th sh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ice Taylor, 1840-18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AT fragment emb"/>
          <p:cNvPicPr/>
          <p:nvPr/>
        </p:nvPicPr>
        <p:blipFill>
          <a:blip r:embed="rId1"/>
          <a:stretch/>
        </p:blipFill>
        <p:spPr>
          <a:xfrm>
            <a:off x="533520" y="4102200"/>
            <a:ext cx="3276360" cy="2158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AT trim"/>
          <p:cNvPicPr/>
          <p:nvPr/>
        </p:nvPicPr>
        <p:blipFill>
          <a:blip r:embed="rId2"/>
          <a:stretch/>
        </p:blipFill>
        <p:spPr>
          <a:xfrm>
            <a:off x="6324480" y="3048120"/>
            <a:ext cx="2384640" cy="3276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1" descr="AT yoke"/>
          <p:cNvPicPr/>
          <p:nvPr/>
        </p:nvPicPr>
        <p:blipFill>
          <a:blip r:embed="rId3"/>
          <a:stretch/>
        </p:blipFill>
        <p:spPr>
          <a:xfrm>
            <a:off x="4114800" y="1371600"/>
            <a:ext cx="2197080" cy="32767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3"/>
          <p:cNvSpPr/>
          <p:nvPr/>
        </p:nvSpPr>
        <p:spPr>
          <a:xfrm>
            <a:off x="746280" y="1560600"/>
            <a:ext cx="2987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rial garment fragments from chemise and nightgown and detail of trim on ruffled yolk of nightg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. Lewis DeRussy, 1795-18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DR 47 contrast yarns closeup"/>
          <p:cNvPicPr/>
          <p:nvPr/>
        </p:nvPicPr>
        <p:blipFill>
          <a:blip r:embed="rId1"/>
          <a:stretch/>
        </p:blipFill>
        <p:spPr>
          <a:xfrm>
            <a:off x="533520" y="1371600"/>
            <a:ext cx="3270240" cy="21859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DR 49 buttons"/>
          <p:cNvPicPr/>
          <p:nvPr/>
        </p:nvPicPr>
        <p:blipFill>
          <a:blip r:embed="rId2"/>
          <a:stretch/>
        </p:blipFill>
        <p:spPr>
          <a:xfrm>
            <a:off x="533520" y="4243320"/>
            <a:ext cx="3276360" cy="2059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DR 28 vest"/>
          <p:cNvPicPr/>
          <p:nvPr/>
        </p:nvPicPr>
        <p:blipFill>
          <a:blip r:embed="rId3"/>
          <a:stretch/>
        </p:blipFill>
        <p:spPr>
          <a:xfrm>
            <a:off x="6934320" y="4267080"/>
            <a:ext cx="1716120" cy="2057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5" descr="DR 51 portrait"/>
          <p:cNvPicPr/>
          <p:nvPr/>
        </p:nvPicPr>
        <p:blipFill>
          <a:blip r:embed="rId4"/>
          <a:stretch/>
        </p:blipFill>
        <p:spPr>
          <a:xfrm>
            <a:off x="6934320" y="1295280"/>
            <a:ext cx="1717560" cy="26672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7"/>
          <p:cNvSpPr/>
          <p:nvPr/>
        </p:nvSpPr>
        <p:spPr>
          <a:xfrm>
            <a:off x="4114800" y="1295280"/>
            <a:ext cx="2530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ail of red brocade on waistcoat 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rcelain buttons and fabric button holes from waistc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. DeRu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 1850s man’s white waistcoat from LSU Historic Textile and Costume Museum, believed to be similar to the one worn by Col. DeRuss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2T18:26:44Z</dcterms:created>
  <dc:creator>jkuttruff</dc:creator>
  <dc:description/>
  <dc:language>en-US</dc:language>
  <cp:lastModifiedBy>Laurel D Romeo</cp:lastModifiedBy>
  <dcterms:modified xsi:type="dcterms:W3CDTF">2014-11-04T13:41:47Z</dcterms:modified>
  <cp:revision>2</cp:revision>
  <dc:subject/>
  <dc:title>Nineteenth Century Burial Dress</dc:title>
</cp:coreProperties>
</file>