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B2779-0D4D-4B31-89AE-C452A2B28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35B19-BD96-447C-9055-A11D9879E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1BD26-8D1F-49E1-A4EF-9768A5E74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82CD2-B0C8-473D-A11C-7676312BF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532E0-FC95-4903-87AE-D9760A062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FA50F-2EDC-44BC-9B43-4BD1E8CB7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AD6C8-804F-42F2-A89F-1E67BC120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4145E-C54C-4247-ACAD-DDFDB9DDB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00785-2CE6-4FA9-851F-04B779428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4BEEE-8605-4B43-8CEC-2CF36A9D7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07D0E-AAD5-49D1-BA47-E9EEDF604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B6890-0A9C-4AB6-9A68-B48B1129F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BBB2D-2099-4286-8FF9-D5CD3A309D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Nineteenth Century Burial Dre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cast iron coffins from South Louisiana contain amazingly well preserved garments from 1850s male and female burials and provide an unprecedented research opportun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xtile remains from the other burials have been more fragment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id-nineteenth Century Cast Iron Coffin Bur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4" descr="LL shoe"/>
          <p:cNvPicPr/>
          <p:nvPr/>
        </p:nvPicPr>
        <p:blipFill>
          <a:blip r:embed="rId1"/>
          <a:stretch/>
        </p:blipFill>
        <p:spPr>
          <a:xfrm>
            <a:off x="6324480" y="3886200"/>
            <a:ext cx="2590920" cy="15588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petticoat yoke"/>
          <p:cNvPicPr/>
          <p:nvPr/>
        </p:nvPicPr>
        <p:blipFill>
          <a:blip r:embed="rId2"/>
          <a:stretch/>
        </p:blipFill>
        <p:spPr>
          <a:xfrm>
            <a:off x="6324480" y="1981080"/>
            <a:ext cx="2514600" cy="17002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8" descr="chemisette detail"/>
          <p:cNvPicPr/>
          <p:nvPr/>
        </p:nvPicPr>
        <p:blipFill>
          <a:blip r:embed="rId3"/>
          <a:stretch/>
        </p:blipFill>
        <p:spPr>
          <a:xfrm>
            <a:off x="4648320" y="1600200"/>
            <a:ext cx="1409760" cy="21337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0" descr="undersleeve"/>
          <p:cNvPicPr/>
          <p:nvPr/>
        </p:nvPicPr>
        <p:blipFill>
          <a:blip r:embed="rId4"/>
          <a:stretch/>
        </p:blipFill>
        <p:spPr>
          <a:xfrm>
            <a:off x="4648320" y="3886200"/>
            <a:ext cx="1425600" cy="2438280"/>
          </a:xfrm>
          <a:prstGeom prst="rect">
            <a:avLst/>
          </a:prstGeom>
          <a:ln w="0">
            <a:noFill/>
          </a:ln>
        </p:spPr>
      </p:pic>
      <p:sp>
        <p:nvSpPr>
          <p:cNvPr id="48" name="Text Box 12"/>
          <p:cNvSpPr/>
          <p:nvPr/>
        </p:nvSpPr>
        <p:spPr>
          <a:xfrm>
            <a:off x="669960" y="1712880"/>
            <a:ext cx="36734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rments from 1850s Louisiana bu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mbroidered chemiset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mbroidered underslee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ist band on pettico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oth sho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ice Taylor, 1840-185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7" descr="AT fragment emb"/>
          <p:cNvPicPr/>
          <p:nvPr/>
        </p:nvPicPr>
        <p:blipFill>
          <a:blip r:embed="rId1"/>
          <a:stretch/>
        </p:blipFill>
        <p:spPr>
          <a:xfrm>
            <a:off x="533520" y="4102200"/>
            <a:ext cx="3276360" cy="21589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9" descr="AT trim"/>
          <p:cNvPicPr/>
          <p:nvPr/>
        </p:nvPicPr>
        <p:blipFill>
          <a:blip r:embed="rId2"/>
          <a:stretch/>
        </p:blipFill>
        <p:spPr>
          <a:xfrm>
            <a:off x="6324480" y="3048120"/>
            <a:ext cx="2384640" cy="32763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1" descr="AT yoke"/>
          <p:cNvPicPr/>
          <p:nvPr/>
        </p:nvPicPr>
        <p:blipFill>
          <a:blip r:embed="rId3"/>
          <a:stretch/>
        </p:blipFill>
        <p:spPr>
          <a:xfrm>
            <a:off x="4114800" y="1371600"/>
            <a:ext cx="2197080" cy="3276720"/>
          </a:xfrm>
          <a:prstGeom prst="rect">
            <a:avLst/>
          </a:prstGeom>
          <a:ln w="0">
            <a:noFill/>
          </a:ln>
        </p:spPr>
      </p:pic>
      <p:sp>
        <p:nvSpPr>
          <p:cNvPr id="53" name="Text Box 13"/>
          <p:cNvSpPr/>
          <p:nvPr/>
        </p:nvSpPr>
        <p:spPr>
          <a:xfrm>
            <a:off x="746280" y="1560600"/>
            <a:ext cx="29876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rial garment fragments from chemise and nightgown and detail of trim on ruffled yolk of nightgow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l. Lewis DeRussy, 1795-186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DR 47 contrast yarns closeup"/>
          <p:cNvPicPr/>
          <p:nvPr/>
        </p:nvPicPr>
        <p:blipFill>
          <a:blip r:embed="rId1"/>
          <a:stretch/>
        </p:blipFill>
        <p:spPr>
          <a:xfrm>
            <a:off x="533520" y="1371600"/>
            <a:ext cx="3270240" cy="21859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1" descr="DR 49 buttons"/>
          <p:cNvPicPr/>
          <p:nvPr/>
        </p:nvPicPr>
        <p:blipFill>
          <a:blip r:embed="rId2"/>
          <a:stretch/>
        </p:blipFill>
        <p:spPr>
          <a:xfrm>
            <a:off x="533520" y="4243320"/>
            <a:ext cx="3276360" cy="20592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3" descr="DR 28 vest"/>
          <p:cNvPicPr/>
          <p:nvPr/>
        </p:nvPicPr>
        <p:blipFill>
          <a:blip r:embed="rId3"/>
          <a:stretch/>
        </p:blipFill>
        <p:spPr>
          <a:xfrm>
            <a:off x="6934320" y="4267080"/>
            <a:ext cx="1716120" cy="20574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5" descr="DR 51 portrait"/>
          <p:cNvPicPr/>
          <p:nvPr/>
        </p:nvPicPr>
        <p:blipFill>
          <a:blip r:embed="rId4"/>
          <a:stretch/>
        </p:blipFill>
        <p:spPr>
          <a:xfrm>
            <a:off x="6934320" y="1295280"/>
            <a:ext cx="1717560" cy="2667240"/>
          </a:xfrm>
          <a:prstGeom prst="rect">
            <a:avLst/>
          </a:prstGeom>
          <a:ln w="0">
            <a:noFill/>
          </a:ln>
        </p:spPr>
      </p:pic>
      <p:sp>
        <p:nvSpPr>
          <p:cNvPr id="59" name="Text Box 17"/>
          <p:cNvSpPr/>
          <p:nvPr/>
        </p:nvSpPr>
        <p:spPr>
          <a:xfrm>
            <a:off x="4114800" y="1295280"/>
            <a:ext cx="2530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ail of red brocade on waistcoat fabr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rcelain buttons and fabric button holes from waistco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. DeRuss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te 1850s man’s white waistcoat from LSU Historic Textile and Costume Museum, believed to be similar to the one worn by Col. DeRuss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02T18:26:44Z</dcterms:created>
  <dc:creator>jkuttruff</dc:creator>
  <dc:description/>
  <dc:language>en-US</dc:language>
  <cp:lastModifiedBy>Laurel D Romeo</cp:lastModifiedBy>
  <dcterms:modified xsi:type="dcterms:W3CDTF">2014-11-04T13:41:47Z</dcterms:modified>
  <cp:revision>2</cp:revision>
  <dc:subject/>
  <dc:title>Nineteenth Century Burial Dress</dc:title>
</cp:coreProperties>
</file>